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D450-52F5-4FF9-BE0D-E589206F4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1152.nicerweb.com/Locked/media/ch45/endocri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yoclinic.com/health/medical/IM006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ualberta.ca/~somji/pituitary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reabsorption of water in distal convoluted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ed by alcohol &amp; caff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tocin: childbirth, milk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khrissysdogwalkers.com/contest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hyroiduk.org.uk/tuk/about_the_thyroid/thyroid_overvie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avingbio.net/endocrine%20system/endocrine%20syste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ayoclinic.com/health/medical/IM034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ichd.nih.gov/health/topics/adrenal_gland_disorders.c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inghaven.typepad.com/photos/fillmores_12_power/pineal-draw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choolworkhelper.net/2010/07/the-endocrine-system-function-and-structur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nekaeportfolio.blogspot.com/2011/02/identifying-classes-of-hormone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4A8-0BBE-4BEE-85B1-392E3CF6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F4C-1EEE-49AF-8EEF-C1CD626D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AD6-B740-409A-A567-E4FE17BF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BDF-20EA-4B04-B440-7A07A594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9F0-F950-4ADF-9D99-E4D1B949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F88-5E39-405F-907B-B4F42FB1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022-46BB-41B0-AC4F-9D0C1E28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1674-4DBD-41C1-963E-4BB21B2C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1C0C-CA12-4DCE-B3B9-B1C8A6A3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F46-A4DB-4AA1-9426-89ECF82C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9D5-5251-4CEC-91EC-AA4059AB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678-6C69-49DB-A93C-50ECF1BE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7339-A16E-4FD2-8E1F-FEB0C7F33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943696/student_view0/chapter10/animation__second_messenger__camp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olcweb/cgi/pluginpop.cgi?it=swf::535::535::/sites/dl/free/0072437316/120109/bio46.swf::Mechanism%20of%20Steroid%20Hormone%20Action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 &amp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ocrine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1 &amp; 1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31840" y="609480"/>
            <a:ext cx="6878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82760" y="609480"/>
            <a:ext cx="6378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the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diffuse into the blood and travel to the pituitary 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gla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es hormones that control other endocrine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nervous control of the hypo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30400" y="1981080"/>
            <a:ext cx="508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hormones from the hypothalamus stimulate or inhibit release of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, stores &amp; rele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actin (P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horm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pic hormones (TSH, ACTH, FSH, L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anocyte-stimulating hormone M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mediate Lob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very developed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s endorphins, “natural painkill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phins function in the nervous system in pathways that control p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 and releases hormones produced by the hypothalam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-diuretic hormone (AD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to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68600" y="609480"/>
            <a:ext cx="5805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81120" y="609480"/>
            <a:ext cx="4181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82760" y="609480"/>
            <a:ext cx="6378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09600" y="609480"/>
            <a:ext cx="672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66840" y="609480"/>
            <a:ext cx="661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s produced by cells in one part of the body that regulate processes in another part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nds secrete hormones directly into the blood (exocrine glands into du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vs. Nerv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ystems integrate and control organs and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system helps body to adj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c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 system maintains control ov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nger period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mino acid chains and are water-soluble; diffuse well through blood and 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r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derived from cholesterol and are soluble in blood when combined with hydrophilic carrier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-Solubl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5160" y="1981080"/>
            <a:ext cx="48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water-soluble (protein) hormones. Specific example of using cAMP to activate proteins in the target c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943696/student_view0/chapter10/animation__second_messenger__camp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-Solubl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84360" y="1981080"/>
            <a:ext cx="417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steroid hormone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olcweb/cgi/pluginpop.cgi?it=swf::535::535::/sites/dl/free/0072437316/120109/bio46.swf::Mechanism%20of%20Steroid%20Hormone%20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0:21:50Z</dcterms:created>
  <dc:creator>rubina khan</dc:creator>
  <dc:description/>
  <dc:language>en-US</dc:language>
  <cp:lastModifiedBy>rubina khan</cp:lastModifiedBy>
  <dcterms:modified xsi:type="dcterms:W3CDTF">2012-12-20T11:36:44Z</dcterms:modified>
  <cp:revision>92</cp:revision>
  <dc:subject/>
  <dc:title>Importance of the Endocrine System</dc:title>
</cp:coreProperties>
</file>